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2639D-A481-476D-AC04-3B955E14F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DCB7-2A2A-411F-B3BE-0319A2626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3C7ED-559D-4328-882B-6FB939314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22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08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22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08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0EEAD-35FD-429E-803C-020326F68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12560" y="158760"/>
            <a:ext cx="83962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208CC-8348-4279-84CC-7D3679B06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22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0840" y="141264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22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90840" y="3649680"/>
            <a:ext cx="27028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6CAF7-0E35-41AA-9467-01914F6D3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5BB74-507C-40B6-9AEE-F84E8FC0C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B6C86-4915-4CE5-AFBA-E9E9569D3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2560" y="158760"/>
            <a:ext cx="83962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2C7A5-2337-42EF-A423-E64DC0EF9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A6AB7-3286-46E0-988F-C14B330D1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5640" y="364968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387E5-B452-4B9E-8A01-DC121A3DC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640" y="1412640"/>
            <a:ext cx="40964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839484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FD7B6-EC7B-4BF2-BBD7-42620FF6A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07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-833" t="-1153" r="-833" b="-1729"/>
          <a:stretch/>
        </p:blipFill>
        <p:spPr>
          <a:xfrm>
            <a:off x="7834320" y="6311880"/>
            <a:ext cx="1035000" cy="30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839484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0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001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00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001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12560" y="6657840"/>
            <a:ext cx="29574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3a0e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"/>
              </a:rPr>
              <a:t>Confidential – version July 14th – BMG CM PM PP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4176720" y="6642360"/>
            <a:ext cx="79056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3a0e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6F88-FA8C-4B83-92E3-762D3A3DF3C0}" type="slidenum">
              <a:rPr b="0" lang="de-DE" sz="900" spc="-1" strike="noStrike">
                <a:solidFill>
                  <a:srgbClr val="3a0e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63080" cy="6854760"/>
            <a:chOff x="0" y="0"/>
            <a:chExt cx="9163080" cy="685476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6308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rcRect l="-833" t="-1153" r="-833" b="-1729"/>
            <a:stretch/>
          </p:blipFill>
          <p:spPr>
            <a:xfrm>
              <a:off x="7834320" y="6311880"/>
              <a:ext cx="1035000" cy="30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3"/>
          </p:nvPr>
        </p:nvSpPr>
        <p:spPr>
          <a:xfrm>
            <a:off x="380880" y="6422400"/>
            <a:ext cx="29577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001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00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001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4.wmf"/><Relationship Id="rId12" Type="http://schemas.openxmlformats.org/officeDocument/2006/relationships/image" Target="../media/image6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image" Target="../media/image6.wmf"/><Relationship Id="rId17" Type="http://schemas.openxmlformats.org/officeDocument/2006/relationships/image" Target="../media/image4.wmf"/><Relationship Id="rId18" Type="http://schemas.openxmlformats.org/officeDocument/2006/relationships/image" Target="../media/image5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6.wmf"/><Relationship Id="rId22" Type="http://schemas.openxmlformats.org/officeDocument/2006/relationships/image" Target="../media/image5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4.wmf"/><Relationship Id="rId12" Type="http://schemas.openxmlformats.org/officeDocument/2006/relationships/image" Target="../media/image6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image" Target="../media/image6.wmf"/><Relationship Id="rId17" Type="http://schemas.openxmlformats.org/officeDocument/2006/relationships/image" Target="../media/image4.wmf"/><Relationship Id="rId18" Type="http://schemas.openxmlformats.org/officeDocument/2006/relationships/image" Target="../media/image5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6.wmf"/><Relationship Id="rId22" Type="http://schemas.openxmlformats.org/officeDocument/2006/relationships/image" Target="../media/image5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4.wmf"/><Relationship Id="rId11" Type="http://schemas.openxmlformats.org/officeDocument/2006/relationships/image" Target="../media/image6.wmf"/><Relationship Id="rId12" Type="http://schemas.openxmlformats.org/officeDocument/2006/relationships/image" Target="../media/image4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6.wmf"/><Relationship Id="rId21" Type="http://schemas.openxmlformats.org/officeDocument/2006/relationships/image" Target="../media/image4.wmf"/><Relationship Id="rId22" Type="http://schemas.openxmlformats.org/officeDocument/2006/relationships/image" Target="../media/image6.wmf"/><Relationship Id="rId2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rnal Planning Roadmaps </a:t>
            </a:r>
            <a:br>
              <a:rPr sz="36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Q1/CY 2007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for DSB me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4920" y="548136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uly 2006 – Strictly confidentia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BMG CM PM PP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782960" y="1052640"/>
            <a:ext cx="4140360" cy="12996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12960" y="1182600"/>
            <a:ext cx="2070000" cy="1303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1520" y="1182600"/>
            <a:ext cx="2068560" cy="1303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2960" y="1182600"/>
            <a:ext cx="2070000" cy="1303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2960" y="1182600"/>
            <a:ext cx="2068560" cy="1303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2960" y="1052640"/>
            <a:ext cx="4140000" cy="12996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9720" y="1312920"/>
            <a:ext cx="8277120" cy="49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8120" y="119376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79920" y="119376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79440" y="1074600"/>
            <a:ext cx="36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46680" y="119376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18480" y="119376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2960" y="5300640"/>
            <a:ext cx="8277120" cy="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0200" y="3789360"/>
            <a:ext cx="8277120" cy="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2960" y="2349360"/>
            <a:ext cx="8277120" cy="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82960" y="1312920"/>
            <a:ext cx="0" cy="4995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1520" y="1312920"/>
            <a:ext cx="0" cy="4995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1322280"/>
            <a:ext cx="0" cy="4996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33440" y="1312920"/>
            <a:ext cx="0" cy="499572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22480" y="1312920"/>
            <a:ext cx="0" cy="499572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403440" y="1312920"/>
            <a:ext cx="688680" cy="4995360"/>
            <a:chOff x="3403440" y="1312920"/>
            <a:chExt cx="688680" cy="4995360"/>
          </a:xfrm>
        </p:grpSpPr>
        <p:sp>
          <p:nvSpPr>
            <p:cNvPr id="108" name=""/>
            <p:cNvSpPr/>
            <p:nvPr/>
          </p:nvSpPr>
          <p:spPr>
            <a:xfrm>
              <a:off x="340344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9212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472000" y="1312920"/>
            <a:ext cx="688680" cy="4995360"/>
            <a:chOff x="5472000" y="1312920"/>
            <a:chExt cx="688680" cy="4995360"/>
          </a:xfrm>
        </p:grpSpPr>
        <p:sp>
          <p:nvSpPr>
            <p:cNvPr id="111" name=""/>
            <p:cNvSpPr/>
            <p:nvPr/>
          </p:nvSpPr>
          <p:spPr>
            <a:xfrm>
              <a:off x="547200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6068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540560" y="1312920"/>
            <a:ext cx="688680" cy="4995360"/>
            <a:chOff x="7540560" y="1312920"/>
            <a:chExt cx="688680" cy="4995360"/>
          </a:xfrm>
        </p:grpSpPr>
        <p:sp>
          <p:nvSpPr>
            <p:cNvPr id="114" name=""/>
            <p:cNvSpPr/>
            <p:nvPr/>
          </p:nvSpPr>
          <p:spPr>
            <a:xfrm>
              <a:off x="754056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24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59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Arial"/>
              </a:rPr>
              <a:t>Internal Planning Roadmap – Category view</a:t>
            </a:r>
            <a:br>
              <a:rPr sz="1400"/>
            </a:br>
            <a:r>
              <a:rPr b="1" i="1" lang="en-US" sz="1600" spc="-1" strike="noStrike">
                <a:solidFill>
                  <a:srgbClr val="3a0e66"/>
                </a:solidFill>
                <a:latin typeface="Arial"/>
              </a:rPr>
              <a:t>Q3/CY 2006 - Q1/CY 2007</a:t>
            </a:r>
            <a:br>
              <a:rPr sz="1600"/>
            </a:br>
            <a:r>
              <a:rPr b="1" i="1" lang="en-US" sz="1400" spc="-1" strike="noStrike">
                <a:solidFill>
                  <a:srgbClr val="ff3399"/>
                </a:solidFill>
                <a:latin typeface="Arial"/>
              </a:rPr>
              <a:t>based on DS0 (first units shipment)</a:t>
            </a:r>
            <a:endParaRPr b="1" lang="en-US" sz="1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339280" y="4894200"/>
            <a:ext cx="399960" cy="1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 rot="5400000">
            <a:off x="3427560" y="2250360"/>
            <a:ext cx="181800" cy="2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72000" bIns="36000" anchor="t" anchorCtr="1" vert="eaVert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4467240"/>
            <a:ext cx="1120680" cy="1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08000" tIns="0" bIns="0" anchor="ctr" anchorCtr="1">
            <a:no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EF61 Special Ed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322200" y="3693240"/>
            <a:ext cx="352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500" spc="-1" strike="noStrike">
                <a:solidFill>
                  <a:srgbClr val="3a0e66"/>
                </a:solidFill>
                <a:latin typeface="Arial"/>
              </a:rPr>
              <a:t>Positioning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093680" y="6106320"/>
            <a:ext cx="45576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93" idx="0"/>
          </p:cNvCxnSpPr>
          <p:nvPr/>
        </p:nvCxnSpPr>
        <p:spPr>
          <a:xfrm flipH="1" rot="16200000">
            <a:off x="5282280" y="808560"/>
            <a:ext cx="1281600" cy="2289960"/>
          </a:xfrm>
          <a:prstGeom prst="curvedConnector5">
            <a:avLst>
              <a:gd name="adj1" fmla="val -17842"/>
              <a:gd name="adj2" fmla="val 50000"/>
              <a:gd name="adj3" fmla="val -17842"/>
            </a:avLst>
          </a:prstGeom>
          <a:ln w="0">
            <a:noFill/>
          </a:ln>
        </p:spPr>
      </p:cxnSp>
      <p:sp>
        <p:nvSpPr>
          <p:cNvPr id="123" name=""/>
          <p:cNvSpPr/>
          <p:nvPr/>
        </p:nvSpPr>
        <p:spPr>
          <a:xfrm>
            <a:off x="179280" y="1312920"/>
            <a:ext cx="463680" cy="49957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 rot="16200000">
            <a:off x="11160" y="3016800"/>
            <a:ext cx="70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Explo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Perform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9040" y="2639880"/>
            <a:ext cx="127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 rot="16200000">
            <a:off x="31320" y="4478760"/>
            <a:ext cx="71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Explo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Image/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9040" y="4121280"/>
            <a:ext cx="127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9040" y="5457960"/>
            <a:ext cx="127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3" action="ppaction://hlinksldjump"/>
          </p:cNvPr>
          <p:cNvSpPr/>
          <p:nvPr/>
        </p:nvSpPr>
        <p:spPr>
          <a:xfrm rot="16200000">
            <a:off x="103680" y="5749920"/>
            <a:ext cx="57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Afford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Qua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 rot="16200000">
            <a:off x="151200" y="1676880"/>
            <a:ext cx="44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Explo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Pa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9040" y="1531800"/>
            <a:ext cx="1270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14560" y="2666880"/>
            <a:ext cx="361800" cy="1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F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97160" y="3345480"/>
            <a:ext cx="36360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684440" y="3860640"/>
            <a:ext cx="583920" cy="1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08000" tIns="0" bIns="0" anchor="ctr" anchorCtr="1">
            <a:no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-fi EF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925000" y="3063240"/>
            <a:ext cx="70956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924280" y="3917160"/>
            <a:ext cx="49536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ny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39840" y="3496320"/>
            <a:ext cx="45252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458600" y="5226840"/>
            <a:ext cx="58428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074640" y="5726880"/>
            <a:ext cx="58428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442920" y="6015960"/>
            <a:ext cx="63036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Zircon F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1680" y="6453360"/>
            <a:ext cx="1716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Subject to change without notic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563360" y="2856600"/>
            <a:ext cx="58428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lc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359720" y="5459400"/>
            <a:ext cx="979560" cy="2016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71 Butterf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626560" y="5445000"/>
            <a:ext cx="903240" cy="2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F51 Value P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796000" y="5299920"/>
            <a:ext cx="68904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rgan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467400" y="2415240"/>
            <a:ext cx="40968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476360" y="4402080"/>
            <a:ext cx="227160" cy="466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3651120" y="2276640"/>
            <a:ext cx="200160" cy="422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592280" y="3367080"/>
            <a:ext cx="200160" cy="422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2149560" y="4807080"/>
            <a:ext cx="199800" cy="422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5019840" y="5157720"/>
            <a:ext cx="199800" cy="422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0"/>
          <a:stretch/>
        </p:blipFill>
        <p:spPr>
          <a:xfrm>
            <a:off x="6316560" y="5959440"/>
            <a:ext cx="200160" cy="422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1"/>
          <a:stretch/>
        </p:blipFill>
        <p:spPr>
          <a:xfrm>
            <a:off x="2433600" y="5389560"/>
            <a:ext cx="227160" cy="466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2"/>
          <a:stretch/>
        </p:blipFill>
        <p:spPr>
          <a:xfrm>
            <a:off x="2146320" y="5445000"/>
            <a:ext cx="264960" cy="422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3"/>
          <a:stretch/>
        </p:blipFill>
        <p:spPr>
          <a:xfrm>
            <a:off x="6361200" y="5194440"/>
            <a:ext cx="226800" cy="466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4"/>
          <a:stretch/>
        </p:blipFill>
        <p:spPr>
          <a:xfrm>
            <a:off x="6566040" y="5529240"/>
            <a:ext cx="199800" cy="422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5"/>
          <a:stretch/>
        </p:blipFill>
        <p:spPr>
          <a:xfrm>
            <a:off x="4416480" y="2746440"/>
            <a:ext cx="226800" cy="466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6"/>
          <a:stretch/>
        </p:blipFill>
        <p:spPr>
          <a:xfrm>
            <a:off x="6300720" y="2354400"/>
            <a:ext cx="265320" cy="422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7"/>
          <a:stretch/>
        </p:blipFill>
        <p:spPr>
          <a:xfrm>
            <a:off x="2811600" y="3006720"/>
            <a:ext cx="226800" cy="466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8"/>
          <a:stretch/>
        </p:blipFill>
        <p:spPr>
          <a:xfrm>
            <a:off x="2195640" y="3213000"/>
            <a:ext cx="199800" cy="422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9"/>
          <a:stretch/>
        </p:blipFill>
        <p:spPr>
          <a:xfrm>
            <a:off x="898560" y="2540160"/>
            <a:ext cx="226800" cy="466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0"/>
          <a:stretch/>
        </p:blipFill>
        <p:spPr>
          <a:xfrm>
            <a:off x="2184480" y="3798720"/>
            <a:ext cx="226800" cy="466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1"/>
          <a:stretch/>
        </p:blipFill>
        <p:spPr>
          <a:xfrm>
            <a:off x="2784600" y="3860640"/>
            <a:ext cx="264960" cy="422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2"/>
          <a:stretch/>
        </p:blipFill>
        <p:spPr>
          <a:xfrm>
            <a:off x="915840" y="6012000"/>
            <a:ext cx="200160" cy="422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10640" y="1071720"/>
            <a:ext cx="36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367800" y="4282200"/>
            <a:ext cx="48276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3"/>
          <a:stretch/>
        </p:blipFill>
        <p:spPr>
          <a:xfrm>
            <a:off x="3154320" y="4221000"/>
            <a:ext cx="265320" cy="422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H="1">
            <a:off x="6637320" y="4493520"/>
            <a:ext cx="50472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09fc2"/>
                </a:solidFill>
                <a:latin typeface="Arial"/>
              </a:rPr>
              <a:t>Chag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4"/>
          <a:stretch/>
        </p:blipFill>
        <p:spPr>
          <a:xfrm>
            <a:off x="6372360" y="4446720"/>
            <a:ext cx="264960" cy="422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5"/>
          <a:stretch/>
        </p:blipFill>
        <p:spPr>
          <a:xfrm>
            <a:off x="7954920" y="376200"/>
            <a:ext cx="265320" cy="422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220240" y="476280"/>
            <a:ext cx="757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b09fc2"/>
                </a:solidFill>
                <a:latin typeface="Arial Unicode MS"/>
                <a:ea typeface="文鼎中黑"/>
              </a:rPr>
              <a:t>Did not reach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b09fc2"/>
                </a:solidFill>
                <a:latin typeface="Arial Unicode MS"/>
                <a:ea typeface="文鼎中黑"/>
              </a:rPr>
              <a:t>m-alpha y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782960" y="1052640"/>
            <a:ext cx="4140360" cy="12996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12960" y="1182600"/>
            <a:ext cx="2070000" cy="1303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1520" y="1182600"/>
            <a:ext cx="2068560" cy="1303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2960" y="1182600"/>
            <a:ext cx="2070000" cy="1303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2960" y="1182600"/>
            <a:ext cx="2068560" cy="1303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2960" y="1052640"/>
            <a:ext cx="4140000" cy="12996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9720" y="1312920"/>
            <a:ext cx="8277120" cy="49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8120" y="119376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79920" y="119376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79440" y="1074600"/>
            <a:ext cx="36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46680" y="119376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18480" y="119376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2960" y="5300640"/>
            <a:ext cx="8277120" cy="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0200" y="3789360"/>
            <a:ext cx="8277120" cy="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2960" y="2349360"/>
            <a:ext cx="8277120" cy="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82960" y="1312920"/>
            <a:ext cx="0" cy="4995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1520" y="1312920"/>
            <a:ext cx="0" cy="4995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00360" y="1322280"/>
            <a:ext cx="0" cy="4996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33440" y="1312920"/>
            <a:ext cx="0" cy="499572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22480" y="1312920"/>
            <a:ext cx="0" cy="499572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403440" y="1312920"/>
            <a:ext cx="688680" cy="4995360"/>
            <a:chOff x="3403440" y="1312920"/>
            <a:chExt cx="688680" cy="4995360"/>
          </a:xfrm>
        </p:grpSpPr>
        <p:sp>
          <p:nvSpPr>
            <p:cNvPr id="193" name=""/>
            <p:cNvSpPr/>
            <p:nvPr/>
          </p:nvSpPr>
          <p:spPr>
            <a:xfrm>
              <a:off x="340344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9212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472000" y="1312920"/>
            <a:ext cx="688680" cy="4995360"/>
            <a:chOff x="5472000" y="1312920"/>
            <a:chExt cx="688680" cy="4995360"/>
          </a:xfrm>
        </p:grpSpPr>
        <p:sp>
          <p:nvSpPr>
            <p:cNvPr id="196" name=""/>
            <p:cNvSpPr/>
            <p:nvPr/>
          </p:nvSpPr>
          <p:spPr>
            <a:xfrm>
              <a:off x="547200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6068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540560" y="1312920"/>
            <a:ext cx="688680" cy="4995360"/>
            <a:chOff x="7540560" y="1312920"/>
            <a:chExt cx="688680" cy="4995360"/>
          </a:xfrm>
        </p:grpSpPr>
        <p:sp>
          <p:nvSpPr>
            <p:cNvPr id="199" name=""/>
            <p:cNvSpPr/>
            <p:nvPr/>
          </p:nvSpPr>
          <p:spPr>
            <a:xfrm>
              <a:off x="754056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29240" y="1312920"/>
              <a:ext cx="0" cy="499536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59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Arial"/>
              </a:rPr>
              <a:t>Internal Planning Roadmap – Category view </a:t>
            </a:r>
            <a:r>
              <a:rPr b="1" lang="en-US" sz="1400" spc="-1" strike="noStrike">
                <a:solidFill>
                  <a:srgbClr val="3a0e66"/>
                </a:solidFill>
                <a:latin typeface="Arial"/>
              </a:rPr>
              <a:t>(1/2)</a:t>
            </a:r>
            <a:br>
              <a:rPr sz="1400"/>
            </a:br>
            <a:r>
              <a:rPr b="1" i="1" lang="en-US" sz="1600" spc="-1" strike="noStrike">
                <a:solidFill>
                  <a:srgbClr val="3a0e66"/>
                </a:solidFill>
                <a:latin typeface="Arial"/>
              </a:rPr>
              <a:t>Q3/CY 2006 - Q1/CY 2007 </a:t>
            </a:r>
            <a:br>
              <a:rPr sz="1600"/>
            </a:br>
            <a:r>
              <a:rPr b="1" i="1" lang="en-US" sz="1400" spc="-1" strike="noStrike">
                <a:solidFill>
                  <a:srgbClr val="ff3399"/>
                </a:solidFill>
                <a:latin typeface="Arial"/>
              </a:rPr>
              <a:t>based on DSA (2/3 ramp up volume available)</a:t>
            </a:r>
            <a:endParaRPr b="1" lang="en-US" sz="1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307680" y="4894200"/>
            <a:ext cx="399960" cy="1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 rot="5400000">
            <a:off x="4652280" y="2250360"/>
            <a:ext cx="181800" cy="2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72000" bIns="36000" anchor="t" anchorCtr="1" vert="eaVert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50960" y="4389480"/>
            <a:ext cx="1120680" cy="1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108000" tIns="0" bIns="0" anchor="ctr" anchorCtr="1">
            <a:no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EF61 Special Ed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322200" y="3693240"/>
            <a:ext cx="3528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500" spc="-1" strike="noStrike">
                <a:solidFill>
                  <a:srgbClr val="3a0e66"/>
                </a:solidFill>
                <a:latin typeface="Arial"/>
              </a:rPr>
              <a:t>Positioning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979640" y="6106320"/>
            <a:ext cx="45576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178" idx="0"/>
          </p:cNvCxnSpPr>
          <p:nvPr/>
        </p:nvCxnSpPr>
        <p:spPr>
          <a:xfrm flipH="1" rot="16200000">
            <a:off x="5282280" y="808560"/>
            <a:ext cx="1281600" cy="2289960"/>
          </a:xfrm>
          <a:prstGeom prst="curvedConnector5">
            <a:avLst>
              <a:gd name="adj1" fmla="val -17842"/>
              <a:gd name="adj2" fmla="val 50000"/>
              <a:gd name="adj3" fmla="val -17842"/>
            </a:avLst>
          </a:prstGeom>
          <a:ln w="0">
            <a:noFill/>
          </a:ln>
        </p:spPr>
      </p:cxnSp>
      <p:sp>
        <p:nvSpPr>
          <p:cNvPr id="208" name=""/>
          <p:cNvSpPr/>
          <p:nvPr/>
        </p:nvSpPr>
        <p:spPr>
          <a:xfrm>
            <a:off x="179280" y="1312920"/>
            <a:ext cx="463680" cy="49957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1" action="ppaction://hlinksldjump"/>
          </p:cNvPr>
          <p:cNvSpPr/>
          <p:nvPr/>
        </p:nvSpPr>
        <p:spPr>
          <a:xfrm rot="16200000">
            <a:off x="11160" y="3016800"/>
            <a:ext cx="70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Explo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Perform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9040" y="2639880"/>
            <a:ext cx="127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2" action="ppaction://hlinksldjump"/>
          </p:cNvPr>
          <p:cNvSpPr/>
          <p:nvPr/>
        </p:nvSpPr>
        <p:spPr>
          <a:xfrm rot="16200000">
            <a:off x="31320" y="4478760"/>
            <a:ext cx="71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Explo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Image/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9040" y="4121280"/>
            <a:ext cx="127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9040" y="5457960"/>
            <a:ext cx="127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3" action="ppaction://hlinksldjump"/>
          </p:cNvPr>
          <p:cNvSpPr/>
          <p:nvPr/>
        </p:nvSpPr>
        <p:spPr>
          <a:xfrm rot="16200000">
            <a:off x="103680" y="5749920"/>
            <a:ext cx="57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Afford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Qua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4" action="ppaction://hlinksldjump"/>
          </p:cNvPr>
          <p:cNvSpPr/>
          <p:nvPr/>
        </p:nvSpPr>
        <p:spPr>
          <a:xfrm rot="16200000">
            <a:off x="151200" y="1676880"/>
            <a:ext cx="44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Explo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a0e66"/>
                </a:solidFill>
                <a:latin typeface="Arial"/>
              </a:rPr>
              <a:t>Pa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9040" y="1531800"/>
            <a:ext cx="1270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54200" y="2666880"/>
            <a:ext cx="362160" cy="1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F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200400" y="3345480"/>
            <a:ext cx="36360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475720" y="3860640"/>
            <a:ext cx="584280" cy="1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08000" tIns="0" bIns="0" anchor="ctr" anchorCtr="1">
            <a:no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-fi EF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366440" y="3001320"/>
            <a:ext cx="70956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292640" y="3917160"/>
            <a:ext cx="49536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ny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63760" y="3496320"/>
            <a:ext cx="45252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756400" y="5226840"/>
            <a:ext cx="58392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652440" y="5726880"/>
            <a:ext cx="58428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020720" y="6015960"/>
            <a:ext cx="63036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Zircon F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1680" y="6453360"/>
            <a:ext cx="1716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Subject to change without notic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004080" y="2856600"/>
            <a:ext cx="58392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lc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937520" y="5459400"/>
            <a:ext cx="979560" cy="2016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71 Butterf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204360" y="5445000"/>
            <a:ext cx="903240" cy="2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F51 Value P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145280" y="5222160"/>
            <a:ext cx="68904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rgan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7834320" y="2415240"/>
            <a:ext cx="40968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2689200" y="4402080"/>
            <a:ext cx="227160" cy="466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4876920" y="2276640"/>
            <a:ext cx="199800" cy="422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2716200" y="3367080"/>
            <a:ext cx="200160" cy="422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3117960" y="4807080"/>
            <a:ext cx="199800" cy="422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9"/>
          <a:stretch/>
        </p:blipFill>
        <p:spPr>
          <a:xfrm>
            <a:off x="6316560" y="5157720"/>
            <a:ext cx="200160" cy="422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0"/>
          <a:stretch/>
        </p:blipFill>
        <p:spPr>
          <a:xfrm>
            <a:off x="6894360" y="5959440"/>
            <a:ext cx="200160" cy="422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1"/>
          <a:stretch/>
        </p:blipFill>
        <p:spPr>
          <a:xfrm>
            <a:off x="3011400" y="5389560"/>
            <a:ext cx="227160" cy="4665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2"/>
          <a:stretch/>
        </p:blipFill>
        <p:spPr>
          <a:xfrm>
            <a:off x="2724120" y="5445000"/>
            <a:ext cx="265320" cy="422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3"/>
          <a:stretch/>
        </p:blipFill>
        <p:spPr>
          <a:xfrm>
            <a:off x="6939000" y="5194440"/>
            <a:ext cx="226800" cy="466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4"/>
          <a:stretch/>
        </p:blipFill>
        <p:spPr>
          <a:xfrm>
            <a:off x="7143840" y="5529240"/>
            <a:ext cx="199800" cy="422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5"/>
          <a:stretch/>
        </p:blipFill>
        <p:spPr>
          <a:xfrm>
            <a:off x="5856120" y="2746440"/>
            <a:ext cx="227160" cy="4665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6"/>
          <a:stretch/>
        </p:blipFill>
        <p:spPr>
          <a:xfrm>
            <a:off x="7667640" y="2354400"/>
            <a:ext cx="264960" cy="4222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7"/>
          <a:stretch/>
        </p:blipFill>
        <p:spPr>
          <a:xfrm>
            <a:off x="4253040" y="3006720"/>
            <a:ext cx="226800" cy="466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8"/>
          <a:stretch/>
        </p:blipFill>
        <p:spPr>
          <a:xfrm>
            <a:off x="3098880" y="3213000"/>
            <a:ext cx="199800" cy="422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9"/>
          <a:stretch/>
        </p:blipFill>
        <p:spPr>
          <a:xfrm>
            <a:off x="2832120" y="2540160"/>
            <a:ext cx="227160" cy="4665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0"/>
          <a:stretch/>
        </p:blipFill>
        <p:spPr>
          <a:xfrm>
            <a:off x="2976480" y="3798720"/>
            <a:ext cx="227160" cy="466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1"/>
          <a:stretch/>
        </p:blipFill>
        <p:spPr>
          <a:xfrm>
            <a:off x="4152960" y="3860640"/>
            <a:ext cx="264960" cy="422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2"/>
          <a:stretch/>
        </p:blipFill>
        <p:spPr>
          <a:xfrm>
            <a:off x="2432160" y="6012000"/>
            <a:ext cx="199800" cy="422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510640" y="1071720"/>
            <a:ext cx="36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594320" y="4358520"/>
            <a:ext cx="48240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3"/>
          <a:stretch/>
        </p:blipFill>
        <p:spPr>
          <a:xfrm>
            <a:off x="4379760" y="4221000"/>
            <a:ext cx="265320" cy="422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 flipH="1">
            <a:off x="6486480" y="4412520"/>
            <a:ext cx="504720" cy="14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09fc2"/>
                </a:solidFill>
                <a:latin typeface="Arial"/>
              </a:rPr>
              <a:t>Chag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4"/>
          <a:stretch/>
        </p:blipFill>
        <p:spPr>
          <a:xfrm>
            <a:off x="6950160" y="4446720"/>
            <a:ext cx="264960" cy="422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5"/>
          <a:stretch/>
        </p:blipFill>
        <p:spPr>
          <a:xfrm>
            <a:off x="7954920" y="376200"/>
            <a:ext cx="265320" cy="422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220240" y="476280"/>
            <a:ext cx="757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b09fc2"/>
                </a:solidFill>
                <a:latin typeface="Arial Unicode MS"/>
                <a:ea typeface="文鼎中黑"/>
              </a:rPr>
              <a:t>Did not reach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b09fc2"/>
                </a:solidFill>
                <a:latin typeface="Arial Unicode MS"/>
                <a:ea typeface="文鼎中黑"/>
              </a:rPr>
              <a:t>m-alpha y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27160" y="1324080"/>
            <a:ext cx="412560" cy="498924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6920" y="5510160"/>
            <a:ext cx="371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文鼎中黑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9360" y="4068720"/>
            <a:ext cx="336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文鼎中黑"/>
              </a:rPr>
              <a:t>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440" y="2496960"/>
            <a:ext cx="404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  <a:ea typeface="文鼎中黑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5960" y="1268280"/>
            <a:ext cx="8277120" cy="49960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12560" y="324000"/>
            <a:ext cx="8396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Arial"/>
              </a:rPr>
              <a:t>Internal Planning Roadmap – Positioning </a:t>
            </a:r>
            <a:br>
              <a:rPr sz="2000"/>
            </a:br>
            <a:r>
              <a:rPr b="1" i="1" lang="en-US" sz="1600" spc="-1" strike="noStrike">
                <a:solidFill>
                  <a:srgbClr val="3a0e66"/>
                </a:solidFill>
                <a:latin typeface="Arial"/>
              </a:rPr>
              <a:t>Q3/CY 2006 - Q1/CY 2007 </a:t>
            </a:r>
            <a:br>
              <a:rPr sz="1600"/>
            </a:br>
            <a:r>
              <a:rPr b="1" i="1" lang="en-US" sz="1400" spc="-1" strike="noStrike">
                <a:solidFill>
                  <a:srgbClr val="ff3399"/>
                </a:solidFill>
                <a:latin typeface="Arial"/>
              </a:rPr>
              <a:t>Based on DS0 (first units shipment)</a:t>
            </a:r>
            <a:endParaRPr b="1" lang="en-US" sz="1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12960" y="1190520"/>
            <a:ext cx="2070000" cy="1285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1520" y="1190520"/>
            <a:ext cx="2068560" cy="1285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2960" y="1190520"/>
            <a:ext cx="2070000" cy="1285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2960" y="1190520"/>
            <a:ext cx="2068560" cy="12852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2960" y="1054080"/>
            <a:ext cx="6208560" cy="13644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8120" y="120168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Q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79920" y="120168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Q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18800" y="1073160"/>
            <a:ext cx="36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Y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46680" y="120168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818480" y="1201680"/>
            <a:ext cx="13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Q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2960" y="5010120"/>
            <a:ext cx="8277120" cy="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5960" y="3141720"/>
            <a:ext cx="8277120" cy="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82960" y="1319040"/>
            <a:ext cx="0" cy="4921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1520" y="1319040"/>
            <a:ext cx="0" cy="4921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12960" y="1319040"/>
            <a:ext cx="0" cy="4921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33440" y="1319040"/>
            <a:ext cx="0" cy="492156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22480" y="1319040"/>
            <a:ext cx="0" cy="492156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403440" y="1316160"/>
            <a:ext cx="688680" cy="4921200"/>
            <a:chOff x="3403440" y="1316160"/>
            <a:chExt cx="688680" cy="4921200"/>
          </a:xfrm>
        </p:grpSpPr>
        <p:sp>
          <p:nvSpPr>
            <p:cNvPr id="281" name=""/>
            <p:cNvSpPr/>
            <p:nvPr/>
          </p:nvSpPr>
          <p:spPr>
            <a:xfrm>
              <a:off x="3403440" y="1316160"/>
              <a:ext cx="0" cy="492120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92120" y="1316160"/>
              <a:ext cx="0" cy="492120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467320" y="1341360"/>
            <a:ext cx="688680" cy="4921200"/>
            <a:chOff x="5467320" y="1341360"/>
            <a:chExt cx="688680" cy="4921200"/>
          </a:xfrm>
        </p:grpSpPr>
        <p:sp>
          <p:nvSpPr>
            <p:cNvPr id="284" name=""/>
            <p:cNvSpPr/>
            <p:nvPr/>
          </p:nvSpPr>
          <p:spPr>
            <a:xfrm>
              <a:off x="5467320" y="1341360"/>
              <a:ext cx="0" cy="492120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56000" y="1341360"/>
              <a:ext cx="0" cy="492120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851520" y="1050840"/>
            <a:ext cx="2068560" cy="136440"/>
          </a:xfrm>
          <a:prstGeom prst="rect">
            <a:avLst/>
          </a:prstGeom>
          <a:solidFill>
            <a:srgbClr val="b09fc2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676200" y="1062000"/>
            <a:ext cx="367920" cy="122040"/>
          </a:xfrm>
          <a:prstGeom prst="rect">
            <a:avLst/>
          </a:prstGeom>
          <a:solidFill>
            <a:srgbClr val="b09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CY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1680" y="6453360"/>
            <a:ext cx="1716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Arial"/>
              </a:rPr>
              <a:t>Subject to change without notic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0880" y="2309400"/>
            <a:ext cx="1238400" cy="1179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The feminine side of 3G“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eminine desig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Mp + VGA 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camera for V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VGA 256k color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LED 2nd 64k color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Music key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4k color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240" y="1201320"/>
            <a:ext cx="1228680" cy="12182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ab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EF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Thrilling Spe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And Top Performance“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MTS/HSDP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2 Mp camera AF +  V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GA for V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Video camcord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Video and music streaming in realtime via HSDP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Intelligent power saving via ight senso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872480" y="225360"/>
            <a:ext cx="199800" cy="4222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8232120" y="450720"/>
            <a:ext cx="22644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"/>
                <a:ea typeface="文鼎中黑"/>
              </a:rPr>
              <a:t>3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713000" y="450720"/>
            <a:ext cx="226440" cy="1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"/>
                <a:ea typeface="文鼎中黑"/>
              </a:rPr>
              <a:t>2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971640" y="4516200"/>
            <a:ext cx="1380960" cy="10720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ab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8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Urban Active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Improved resistance against shock, splash, water &amp; dus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2G EDG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cratch resistant display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Music player and bundled stereo heads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1.3 Mp cam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Integrated tor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93880" y="4438800"/>
            <a:ext cx="1230480" cy="880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ab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The Perfect Fit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urprising „Liquid“ desig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15 mm thin bar 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GSM/ED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QVGA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1.3 Mp cam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Video stream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692360" y="1391040"/>
            <a:ext cx="1350720" cy="7513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ny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Mysterious Sensation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Innovative FSR (Force sensitive resistor) technology to avoid unintended u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3.2 Mp AF + VGA for V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16 M color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68800" y="4669200"/>
            <a:ext cx="979560" cy="9374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icass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Simple Business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P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Authentic material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1.3 Mp cam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CIF+ 256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Laser point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T®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0120" y="5669640"/>
            <a:ext cx="928800" cy="6444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ab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Basic Colorful Communication“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P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k color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92760" y="5751000"/>
            <a:ext cx="1407960" cy="548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ab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Zircon F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My reliable communication tool“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64k color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491160" y="5386680"/>
            <a:ext cx="974880" cy="8582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ab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My Spontaneous Sharing Companion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P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T®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GA cam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4k color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70280" y="1298520"/>
            <a:ext cx="1306440" cy="9874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ab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5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de-DE" sz="700" spc="-1" strike="noStrike">
                <a:solidFill>
                  <a:srgbClr val="000000"/>
                </a:solidFill>
                <a:latin typeface="Arial"/>
              </a:rPr>
              <a:t>The Smart Navigator“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S Mobile 5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PS/WLAN/VoIP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WERTY keypa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ouch scree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uad-b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3 Mp cam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VGA 256k color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5960" y="3430440"/>
            <a:ext cx="1035000" cy="954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ab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F61Special Edi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Feminine Sophistication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lower pattern desig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irror display with dedicat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ard key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3 Mp cam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508640" y="2352240"/>
            <a:ext cx="1242720" cy="1222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08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alc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Authentic Multimedia power“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lim multimed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.2 Mp camera turn able for V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.4’’ QVGA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ull screen video stream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ereo audio qua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819520" y="1731960"/>
            <a:ext cx="264960" cy="4222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H="1">
            <a:off x="2685960" y="5623560"/>
            <a:ext cx="1022400" cy="706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21 Butterf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Stylish and small slider phone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P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CSTN 64k color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Lanyar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00040" y="5647320"/>
            <a:ext cx="966960" cy="7066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F51 Value Pac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Stylish and small clam phone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P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CSTN color display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M radio HS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241240" y="1343520"/>
            <a:ext cx="1346040" cy="935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ab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al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Music player meets phone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MTS/EDGE/HSDP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VGA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MP3 player with music key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Mpix camera + VGA for V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ereo speak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37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T®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5350680" y="4524840"/>
            <a:ext cx="1165320" cy="773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ab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rgani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For fun seekers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P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MP3 player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&amp; FM radi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usic key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nd OLED displa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1.3 Mp cam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3573360" y="1336680"/>
            <a:ext cx="200160" cy="4222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1123920" y="5762520"/>
            <a:ext cx="200160" cy="4222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2976480" y="2602080"/>
            <a:ext cx="227160" cy="4665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1104840" y="1860480"/>
            <a:ext cx="227160" cy="4669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1536840" y="3711600"/>
            <a:ext cx="226800" cy="4665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4356000" y="2314440"/>
            <a:ext cx="227160" cy="4669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9"/>
          <a:stretch/>
        </p:blipFill>
        <p:spPr>
          <a:xfrm>
            <a:off x="2463840" y="5608800"/>
            <a:ext cx="264960" cy="4222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0"/>
          <a:stretch/>
        </p:blipFill>
        <p:spPr>
          <a:xfrm>
            <a:off x="2246400" y="5516640"/>
            <a:ext cx="226800" cy="4665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1"/>
          <a:stretch/>
        </p:blipFill>
        <p:spPr>
          <a:xfrm>
            <a:off x="6516720" y="1413000"/>
            <a:ext cx="264960" cy="4222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2"/>
          <a:stretch/>
        </p:blipFill>
        <p:spPr>
          <a:xfrm>
            <a:off x="6372360" y="4721400"/>
            <a:ext cx="226800" cy="4665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3"/>
          <a:stretch/>
        </p:blipFill>
        <p:spPr>
          <a:xfrm>
            <a:off x="8405640" y="246240"/>
            <a:ext cx="200160" cy="4219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4"/>
          <a:stretch/>
        </p:blipFill>
        <p:spPr>
          <a:xfrm>
            <a:off x="6332400" y="5300640"/>
            <a:ext cx="200160" cy="4222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5"/>
          <a:stretch/>
        </p:blipFill>
        <p:spPr>
          <a:xfrm>
            <a:off x="6162840" y="5738760"/>
            <a:ext cx="199800" cy="422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16"/>
          <a:stretch/>
        </p:blipFill>
        <p:spPr>
          <a:xfrm>
            <a:off x="1801800" y="4302000"/>
            <a:ext cx="200160" cy="4222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17"/>
          <a:stretch/>
        </p:blipFill>
        <p:spPr>
          <a:xfrm>
            <a:off x="2500200" y="4565520"/>
            <a:ext cx="200160" cy="4222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18"/>
          <a:stretch/>
        </p:blipFill>
        <p:spPr>
          <a:xfrm>
            <a:off x="5040360" y="5016600"/>
            <a:ext cx="199800" cy="4222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395440" y="3483000"/>
            <a:ext cx="0" cy="0"/>
          </a:xfrm>
          <a:prstGeom prst="line">
            <a:avLst/>
          </a:prstGeom>
          <a:ln w="648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600280" y="3747240"/>
            <a:ext cx="1325520" cy="6555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8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Instant Flexibility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mall UMTS bar 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3 Mp cam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CIF+ 256k color display Video stream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79280" y="2465640"/>
            <a:ext cx="1325520" cy="8470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Q-fi EF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The Fusion of Style And Music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dicated music keys, part of the clamshell design conce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P3 player &amp; FM radi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3 Mp camer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9"/>
          <a:stretch/>
        </p:blipFill>
        <p:spPr>
          <a:xfrm>
            <a:off x="2427120" y="3800520"/>
            <a:ext cx="200160" cy="422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H="1">
            <a:off x="3270240" y="3192480"/>
            <a:ext cx="108576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8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ink variant of SL7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Feminine pack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0"/>
          <a:stretch/>
        </p:blipFill>
        <p:spPr>
          <a:xfrm>
            <a:off x="3084480" y="3049560"/>
            <a:ext cx="265320" cy="422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1"/>
          <a:stretch/>
        </p:blipFill>
        <p:spPr>
          <a:xfrm>
            <a:off x="1403280" y="2890800"/>
            <a:ext cx="227160" cy="4669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 flipH="1">
            <a:off x="6659640" y="3790440"/>
            <a:ext cx="1006560" cy="10720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cab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72000" tIns="18000" bIns="18000" anchor="ctr">
            <a:spAutoFit/>
          </a:bodyPr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hag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Multimedia ch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2G ED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educing and compact slider design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.3Mp came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Inutitive U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Video stream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7480">
              <a:lnSpc>
                <a:spcPct val="90000"/>
              </a:lnSpc>
              <a:spcBef>
                <a:spcPts val="88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T®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2"/>
          <a:stretch/>
        </p:blipFill>
        <p:spPr>
          <a:xfrm>
            <a:off x="6454800" y="4076640"/>
            <a:ext cx="264960" cy="42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ratsimbazafyk</cp:lastModifiedBy>
  <dcterms:modified xsi:type="dcterms:W3CDTF">2006-07-18T13:19:04Z</dcterms:modified>
  <cp:revision>2275</cp:revision>
  <dc:subject/>
  <dc:title>PowerPoint 簡報</dc:title>
</cp:coreProperties>
</file>